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gif" ContentType="image/gif"/>
  <Override PartName="/ppt/media/image4.gif" ContentType="image/gif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A219-D866-427E-914F-0614EFD41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B7A0-8A8F-4FD3-93E9-8E0F0A0B2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A36D-E3EC-47B5-81BE-46218604D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F15A-EB68-4CE6-995E-7AE1B1D40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5116-C714-4BE2-AE4F-66A8298A5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3800-7DF9-4543-A7C7-CD72152B9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556-8527-49EF-AB6F-8E385B08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914-A897-442F-AA0C-8420A2C9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097-DCDD-4553-A12D-8C8118BA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16B-93D6-422A-BD48-EA286F29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633-16D9-4111-BA72-2E1D2196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A4C-F022-487F-869C-FF7C375F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B5C-4E93-4044-8FA6-9BC18AF4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EA5-0369-43C0-9096-000C1878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906-7832-402D-999B-F0A09310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4FE-885D-454E-9225-4EBA0A10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382-6630-4EDA-80DB-E9A89C90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74A-FC96-4DCD-8154-5575FFC5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62F7-0E96-4785-BD82-AE77C70ED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pyrus"/>
              </a:rPr>
              <a:t>Maglasang Elementary Schoo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Gerard Brian E. Maglas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 6, Room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011 to March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Subjects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4920" y="190512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1. Englis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80880" y="312408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2. Mathemati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57200" y="419112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3. Scie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Engl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1905120"/>
            <a:ext cx="598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1. Using Compound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281952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2. Working with Complex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0" y="37339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3. Using Ger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0" y="46483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4. Working with Indefinite Pronou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6558120" y="4021200"/>
            <a:ext cx="2585880" cy="2836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Writting_books"/>
          <p:cNvPicPr/>
          <p:nvPr/>
        </p:nvPicPr>
        <p:blipFill>
          <a:blip r:embed="rId2"/>
          <a:stretch/>
        </p:blipFill>
        <p:spPr>
          <a:xfrm>
            <a:off x="685800" y="0"/>
            <a:ext cx="2095560" cy="1752480"/>
          </a:xfrm>
          <a:prstGeom prst="rect">
            <a:avLst/>
          </a:prstGeom>
          <a:ln w="0">
            <a:noFill/>
          </a:ln>
        </p:spPr>
      </p:pic>
      <p:sp>
        <p:nvSpPr>
          <p:cNvPr id="61" name="Left Arrow 10"/>
          <p:cNvSpPr/>
          <p:nvPr/>
        </p:nvSpPr>
        <p:spPr>
          <a:xfrm>
            <a:off x="228600" y="5943600"/>
            <a:ext cx="1295280" cy="636480"/>
          </a:xfrm>
          <a:prstGeom prst="leftArrow">
            <a:avLst>
              <a:gd name="adj1" fmla="val 50000"/>
              <a:gd name="adj2" fmla="val 5003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Mathematic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0" y="18288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1. Multiplication and Division of Whol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0" y="26668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2. Fr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3. Ratio and Propor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0" y="4419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4. Dec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0" y="5410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5. Perc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Chart_or_plan"/>
          <p:cNvPicPr/>
          <p:nvPr/>
        </p:nvPicPr>
        <p:blipFill>
          <a:blip r:embed="rId1"/>
          <a:stretch/>
        </p:blipFill>
        <p:spPr>
          <a:xfrm>
            <a:off x="685800" y="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teacher_clipart_1"/>
          <p:cNvPicPr/>
          <p:nvPr/>
        </p:nvPicPr>
        <p:blipFill>
          <a:blip r:embed="rId2"/>
          <a:stretch/>
        </p:blipFill>
        <p:spPr>
          <a:xfrm>
            <a:off x="5638680" y="2666880"/>
            <a:ext cx="327672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Left Arrow 12"/>
          <p:cNvSpPr/>
          <p:nvPr/>
        </p:nvSpPr>
        <p:spPr>
          <a:xfrm>
            <a:off x="457200" y="6172200"/>
            <a:ext cx="1143000" cy="6858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Sc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1. The Circulatory and Nervous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0" y="2514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2. Interrelationships in the Eco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0" y="33526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3. Energy in the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0" y="42670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4. Moving Bod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0" y="5105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5. The Changing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5" descr=""/>
          <p:cNvPicPr/>
          <p:nvPr/>
        </p:nvPicPr>
        <p:blipFill>
          <a:blip r:embed="rId1"/>
          <a:stretch/>
        </p:blipFill>
        <p:spPr>
          <a:xfrm>
            <a:off x="5668920" y="4114800"/>
            <a:ext cx="3475080" cy="2171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ad_scientist_3"/>
          <p:cNvPicPr/>
          <p:nvPr/>
        </p:nvPicPr>
        <p:blipFill>
          <a:blip r:embed="rId2"/>
          <a:stretch/>
        </p:blipFill>
        <p:spPr>
          <a:xfrm>
            <a:off x="609480" y="0"/>
            <a:ext cx="747720" cy="1542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19:17Z</dcterms:created>
  <dc:creator>PC</dc:creator>
  <dc:description/>
  <dc:language>en-US</dc:language>
  <cp:lastModifiedBy>PC</cp:lastModifiedBy>
  <dcterms:modified xsi:type="dcterms:W3CDTF">2011-10-11T16:21:39Z</dcterms:modified>
  <cp:revision>7</cp:revision>
  <dc:subject/>
  <dc:title>Maglasang Elementary School</dc:title>
</cp:coreProperties>
</file>